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097-D851-407D-88AA-8741C5D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5F3-E3E6-4709-9989-FACC1DB0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0CC-A566-478D-ADFD-9377E9D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F59-617B-46A4-A1A2-AD189A4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54F-1527-416B-BBEF-03AFA5B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168-9DC5-48E3-9F90-5465B3C3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B57-14CA-4ECE-BEE7-854F1320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24D-A1B9-4DBC-8584-69B28F6E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8D7-66BE-4A5D-B31A-04E9857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772-AF03-4A9E-8A58-1B0DE12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45E-CE10-4F41-89F5-70B565C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AE5-815D-4B07-8869-FDDE452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B31-43A2-467A-8E5A-3284B632A7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في استقبا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56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  <a:cs typeface="Akhbar MT"/>
              </a:rPr>
              <a:t>تنهضُ بالشوقِ إلـى الـمواعيد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8800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 تسمعُ كلماتِكَ الشهيّة تدعوها لتصعَدَ إلـى العيد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76640"/>
            <a:ext cx="9144000" cy="203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ُصغي إلى صوتِكَ الحبيب فتذكُرُ أنّك آتٍ حق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716280"/>
            <a:ext cx="874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نّ تجلّيكَ فيها قريب هللو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360" y="-27000"/>
            <a:ext cx="5435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فرحِ والحبِ تسجُدُ لكَ يا كلمةَ الخلاصِ والحياة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51134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تهتِفُ عند ذكرِ اسمِ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32800" y="1984320"/>
            <a:ext cx="656028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ف</cp:lastModifiedBy>
  <dcterms:modified xsi:type="dcterms:W3CDTF">2006-11-13T21:20:29Z</dcterms:modified>
  <cp:revision>13</cp:revision>
  <dc:subject/>
  <dc:title>Slide 1</dc:title>
</cp:coreProperties>
</file>